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C6FE-7494-49E1-9C6E-332D6518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B92A-16DD-4EC0-962E-378E6099C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C45E-B85A-4D04-BF07-8AF6023BB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8620-8841-49AF-8178-9D440DA3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E85A-4D7E-4F06-A90A-E0A3E502B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A668-FC59-4B64-AE85-15011E4D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B824-1D90-4501-832F-4B0AAD34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E8FE-7810-4293-A836-04A10D86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38D0-12C8-475A-A36D-859580A78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35CC-4E49-4D41-A72A-A49319EAC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22D2-CB8F-4C09-BE4B-E8F8098F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F1D6-393A-44CA-B9B0-467D19CC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AEA85-700C-47B4-B547-7EE03503A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EA7EE-1259-4354-8C7B-EFF245B1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7993A-04A9-4659-9E23-730FE928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90663-DCD0-497A-94FA-C1BD374AF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CD29-86EB-41A6-81EB-D7E5F5773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D2EE-FEA3-4B92-B373-2CC34F95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FBC9-6484-433C-9302-B2A66D1C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5EA2-0491-4CF8-97C6-B69AF9CD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D224-A564-42A5-A50E-EDC4DC8D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416E-1503-44D2-AE84-0094EACC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B3CA-1D10-4C5F-81D9-D4CEFA8C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C75D-F5A5-49B2-91E1-A6D09DC4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8126-25C0-4C78-AF39-0187DDBC87AE}" type="slidenum">
              <a:rPr b="1" lang="en-US" sz="26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59E5-B80F-42A9-A983-B282E3B2696E}" type="slidenum">
              <a:rPr b="1" lang="en-US" sz="26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Baveuse"/>
              </a:rPr>
              <a:t>ISRAEL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7315200" cy="36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1085040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LAND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D S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371600" y="2971800"/>
            <a:ext cx="7315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Dead Sea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38080" y="1866960"/>
            <a:ext cx="731520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AND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br>
              <a:rPr sz="3200"/>
            </a:br>
            <a:endParaRPr b="1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lan Heigh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gev Dese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581280" y="2879640"/>
            <a:ext cx="541044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ECONOMY</a:t>
            </a: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ru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bbut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sha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ufactu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l Aviv/Yaf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ot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971800" y="2362320"/>
            <a:ext cx="1584360" cy="1981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3600" y="4724280"/>
            <a:ext cx="2895480" cy="19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PEOPLE</a:t>
            </a: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daism – 8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lestinian – 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rusal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 Avi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if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971800" y="3505320"/>
            <a:ext cx="2440080" cy="2895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562720" y="228600"/>
            <a:ext cx="33336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History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raelites, Ottomans, Byzantines, Ar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cism in Eur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W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loca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iya – Law of retu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28800" y="4932360"/>
            <a:ext cx="2228760" cy="1862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686480" y="3048120"/>
            <a:ext cx="4457520" cy="34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HISTORY</a:t>
            </a: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 Day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m Kippur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nich G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st Bank and Gaza Stri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mocratic Republ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638680" y="380880"/>
            <a:ext cx="2857680" cy="32148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276720" y="304920"/>
            <a:ext cx="1904760" cy="1419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5791320" y="373392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9:49:10Z</dcterms:created>
  <dc:creator>Joe Dirt</dc:creator>
  <dc:description/>
  <dc:language>en-US</dc:language>
  <cp:lastModifiedBy> John Doe</cp:lastModifiedBy>
  <dcterms:modified xsi:type="dcterms:W3CDTF">2010-01-13T14:39:21Z</dcterms:modified>
  <cp:revision>8</cp:revision>
  <dc:subject/>
  <dc:title>ISRAEL</dc:title>
</cp:coreProperties>
</file>